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402F-1B2A-4542-BB07-952D63F0A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6960"/>
            <a:ext cx="4648320" cy="3486240"/>
          </a:xfrm>
          <a:prstGeom prst="rect">
            <a:avLst/>
          </a:prstGeom>
          <a:ln w="0">
            <a:noFill/>
          </a:ln>
        </p:spPr>
      </p:sp>
      <p:sp>
        <p:nvSpPr>
          <p:cNvPr id="4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F17F-DEF8-4725-8155-7D3D13574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53296-CF8D-49EE-BD46-74664258D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2CB3-FB80-408B-9521-29A9756D5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A7A99-A75D-4C54-9547-9A3BB86E7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3C024-98D2-4AE6-8FA8-6E599ED87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7345E-F943-482E-A386-21C620D48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BA11D-AEB1-4A6A-A011-08273884E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B151D-2A3C-449B-A807-FCD9B716A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60EBE-72A9-4FB3-A1EE-CDEB68D8D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499A6-C86A-4DA8-BB54-5B3BA82AB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72B63-B598-43C1-A7F6-076F54ADB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E0325-6078-4C1B-82E4-A1005340C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B07C-D1A0-4E45-BFF8-10A59BEC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873B9-D598-43A2-89EC-E5E18C4E2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F7C9C-B230-43C8-88C7-7965F588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7486A-DF16-4207-B062-217B0997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796F8-2C8D-489F-8517-6D6730053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A5152-A627-4CB6-9578-6D5A8E829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9A785-F803-4ABB-BC08-4D0A5E1913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819CF-1008-48BD-BC05-4301E3799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64957-96C0-4D9C-AB38-FBC60AF17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34687-2F28-4E61-A835-D30B203F2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4C947-D6BE-47CC-857E-68CAA911C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64310-F600-461A-9F3F-AE9CF74B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E24AB-D26C-47C5-B9CC-AD2AA38A1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B92B7-EE67-4A09-981B-2D9527CE5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18A5B-67D9-4039-BC62-EA467814C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BD6F7-291A-4E02-8098-F18C97377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82BE1-8D0A-4519-8589-692637D17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2A033-97CC-4D3F-929B-78778AA00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BB204-DDFB-42CD-89B1-DD621D4DBE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E3CF8-8F97-4A37-88C9-E43EEC299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5B3F8-5B2A-4AF6-985C-5BA063BBC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1A927-79EC-47CE-B1D8-27FFAABFE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2B92-3867-45F1-AD18-76B3C3CD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3FC27-D6BF-4249-9FF6-15699DB1C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542705-7D27-4136-A8C0-4F2ED91CF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B33D3-D14C-4DB1-BAC6-4CAC43013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B11DE-372F-402B-ABE4-21C229437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2F90B-AD08-40E4-AB59-AA308AA41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22FD7-95C9-40F2-AD13-60B35278D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A1AA7-F0BD-466D-A0B3-F275559F2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50C9E-68EE-437C-AB33-3422E25EC4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7D290-7288-4207-B8BF-30DF36331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57C549-2C04-4779-B301-7714FD9BA5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3ECD-7833-45EE-AED5-5E7032A1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8B72B-8230-4EC2-81E7-72B7F05FB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F2770-B737-4AC9-9EBF-5110E992B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50EE2-6A2C-4AF4-8300-C175BBE14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F2336-B667-438B-8AE4-B8D43DBA7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27F22-E0A6-43CD-BCA6-16BCC4448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F23B2-5AE1-45A1-924B-83E652F9B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213A0-FAA4-47D4-B176-44E4479FC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8A7B8-FFAC-4F64-B510-6EF8763E8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79FFD-B655-405C-AD74-E9F4162FD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EE617F-51AD-4FCD-B7A8-C5C6C6F617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1FC73-74B5-40EB-B7E2-44082A17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E25BCA-A4D9-443A-9351-A6DEBF022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8CBE1-9AB1-4BC1-A532-79645D4236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4BBB5-CD4D-4AD6-800D-AB82D315D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6C3C1-1923-461F-9D16-D0036C9C6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088FEE-6C1B-490E-8C3F-634D3D4D7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1FA10-A2B9-40A0-8FDC-A0704BE32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C2B04-D38D-4B1B-A280-E9C5F161E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AD697-14F2-43F8-95D4-5440116CF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4EA71-29E7-4AB9-9EAE-5DDDD1EDE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B392C-BCA0-4A47-87B8-B93A56AE7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E88D-97A3-4004-AA3F-D746E264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E6859-BA8C-401C-81E6-F90BB7D6B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EE0DB6-C8B8-40A0-9938-92156AEC2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80D67-40B4-4CC1-9C33-925B0E4D15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48591C-D15D-4709-877D-590DAAE863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70987-3668-4420-A8FD-5BB545B516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38453-3212-4482-A6B3-DDC9B75F7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2315D-4024-4739-A2AA-1D316928C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3D3B84-C4B1-4263-AFAC-1BF182BE1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0BA168-C96A-488F-9097-557624DE2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615B3-74FA-400E-8C03-1B7DC8C7D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BB7E-0A68-48B3-A3A9-B7CAB663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1A4B0-7F9E-4E79-94FB-BEC4A3671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FC850-76EB-448C-993F-B994354BA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14E9E-7880-49ED-96EB-90E265A81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86E6B0-7752-44AD-9ACB-D18A5082F3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39E86-B634-48CD-B95F-0731403AB7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9FCB29-079F-46DB-A776-770397E252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90D286-DBEE-4598-AD16-72F75BBC03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D43A0-9DED-419B-BAE1-9AD2199CB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10A68B-7EA1-477D-91FF-C6A263F0E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04CB9-97A1-4515-A0B4-279B2E999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5ECA-A392-4F6C-86A0-7DC68038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6539DB-14F7-42EF-B24A-F5F06DD88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D9D2B-6A3F-4A67-87FB-00F220D9C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4862F-CDF7-4981-988C-9005106B4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7197F-0B8D-4D3A-A5CA-B5323BFC3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27F61F-34D4-4FDD-9022-07F7231ED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8BBE4A-E53A-47DD-BF53-BAB16BA132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8E24A3-17B1-4FB4-BFBB-29489E0083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8E65-EB3B-4C6C-BAF9-0A89A770ECE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6F75-1765-4360-B36F-09DF18BCFA7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B46A-FD4A-4266-843B-82F30FC0A0A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0BC6-0EA9-4EBB-AFDD-846AB4BB4C3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5D4C-3AB8-40DE-AF1E-BF9DB31C897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B834-6FF8-41FB-9440-7D937A3CFF9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678C-4EBD-4C90-BEEA-1CE82FFBDDF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75B8-527B-45B8-8F94-20559391B42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rchives.gov/exhibits/featured_documents/magna_carta/images/magna_carta.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deas borrowed from the Past</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Pg 29</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Straight Connector 4"/>
          <p:cNvSpPr/>
          <p:nvPr/>
        </p:nvSpPr>
        <p:spPr>
          <a:xfrm>
            <a:off x="8229600" y="0"/>
            <a:ext cx="0" cy="685800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6"/>
          <p:cNvSpPr/>
          <p:nvPr/>
        </p:nvSpPr>
        <p:spPr>
          <a:xfrm>
            <a:off x="0" y="54864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7"/>
          <p:cNvSpPr/>
          <p:nvPr/>
        </p:nvSpPr>
        <p:spPr>
          <a:xfrm>
            <a:off x="0" y="129528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8"/>
          <p:cNvSpPr/>
          <p:nvPr/>
        </p:nvSpPr>
        <p:spPr>
          <a:xfrm>
            <a:off x="0" y="2666880"/>
            <a:ext cx="830592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9"/>
          <p:cNvSpPr/>
          <p:nvPr/>
        </p:nvSpPr>
        <p:spPr>
          <a:xfrm>
            <a:off x="0" y="41148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Box 15"/>
          <p:cNvSpPr/>
          <p:nvPr/>
        </p:nvSpPr>
        <p:spPr>
          <a:xfrm>
            <a:off x="2514600" y="304920"/>
            <a:ext cx="556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Magna Carta</a:t>
            </a:r>
            <a:endParaRPr b="0" lang="en-US" sz="5400" spc="-1" strike="noStrike">
              <a:solidFill>
                <a:srgbClr val="000000"/>
              </a:solidFill>
              <a:latin typeface="Arial"/>
            </a:endParaRPr>
          </a:p>
        </p:txBody>
      </p:sp>
      <p:sp>
        <p:nvSpPr>
          <p:cNvPr id="367" name="TextBox 16"/>
          <p:cNvSpPr/>
          <p:nvPr/>
        </p:nvSpPr>
        <p:spPr>
          <a:xfrm>
            <a:off x="2666880" y="1600200"/>
            <a:ext cx="556272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British Parliament</a:t>
            </a:r>
            <a:endParaRPr b="0" lang="en-US" sz="5400" spc="-1" strike="noStrike">
              <a:solidFill>
                <a:srgbClr val="000000"/>
              </a:solidFill>
              <a:latin typeface="Arial"/>
            </a:endParaRPr>
          </a:p>
        </p:txBody>
      </p:sp>
      <p:sp>
        <p:nvSpPr>
          <p:cNvPr id="368" name="TextBox 17"/>
          <p:cNvSpPr/>
          <p:nvPr/>
        </p:nvSpPr>
        <p:spPr>
          <a:xfrm>
            <a:off x="2666880" y="2971800"/>
            <a:ext cx="556272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obe Garamond Pro Bold"/>
              </a:rPr>
              <a:t>Mayflower Compact</a:t>
            </a:r>
            <a:endParaRPr b="0" lang="en-US" sz="4800" spc="-1" strike="noStrike">
              <a:solidFill>
                <a:srgbClr val="000000"/>
              </a:solidFill>
              <a:latin typeface="Arial"/>
            </a:endParaRPr>
          </a:p>
        </p:txBody>
      </p:sp>
      <p:sp>
        <p:nvSpPr>
          <p:cNvPr id="369" name="TextBox 18"/>
          <p:cNvSpPr/>
          <p:nvPr/>
        </p:nvSpPr>
        <p:spPr>
          <a:xfrm>
            <a:off x="2666880" y="4114800"/>
            <a:ext cx="5562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Garamond Pro Bold"/>
              </a:rPr>
              <a:t>English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Bill of Rights</a:t>
            </a:r>
            <a:endParaRPr b="0" lang="en-US" sz="5400" spc="-1" strike="noStrike">
              <a:solidFill>
                <a:srgbClr val="000000"/>
              </a:solidFill>
              <a:latin typeface="Arial"/>
            </a:endParaRPr>
          </a:p>
        </p:txBody>
      </p:sp>
      <p:sp>
        <p:nvSpPr>
          <p:cNvPr id="370" name="TextBox 19"/>
          <p:cNvSpPr/>
          <p:nvPr/>
        </p:nvSpPr>
        <p:spPr>
          <a:xfrm>
            <a:off x="2666880" y="5715000"/>
            <a:ext cx="556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The Enlightment</a:t>
            </a:r>
            <a:endParaRPr b="0" lang="en-US" sz="5400" spc="-1" strike="noStrike">
              <a:solidFill>
                <a:srgbClr val="000000"/>
              </a:solidFill>
              <a:latin typeface="Arial"/>
            </a:endParaRPr>
          </a:p>
        </p:txBody>
      </p:sp>
      <p:sp>
        <p:nvSpPr>
          <p:cNvPr id="371" name="TextBox 11"/>
          <p:cNvSpPr/>
          <p:nvPr/>
        </p:nvSpPr>
        <p:spPr>
          <a:xfrm>
            <a:off x="8153280" y="301680"/>
            <a:ext cx="990720" cy="6497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00’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gna Carta</a:t>
            </a:r>
            <a:endParaRPr b="0" lang="en-US" sz="3200" spc="-1" strike="noStrike">
              <a:solidFill>
                <a:srgbClr val="464653"/>
              </a:solidFill>
              <a:latin typeface="Bookman Old Style"/>
            </a:endParaRPr>
          </a:p>
        </p:txBody>
      </p:sp>
      <p:sp>
        <p:nvSpPr>
          <p:cNvPr id="373" name=""/>
          <p:cNvSpPr txBox="1"/>
          <p:nvPr/>
        </p:nvSpPr>
        <p:spPr>
          <a:xfrm>
            <a:off x="457200" y="1218960"/>
            <a:ext cx="8229600" cy="56386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5</a:t>
            </a:r>
            <a:r>
              <a:rPr b="0" lang="en-US" sz="2600" spc="-1" strike="noStrike" baseline="30000">
                <a:solidFill>
                  <a:srgbClr val="000000"/>
                </a:solidFill>
                <a:latin typeface="Gill Sans MT"/>
              </a:rPr>
              <a:t>th</a:t>
            </a:r>
            <a:r>
              <a:rPr b="0" lang="en-US" sz="2600" spc="-1" strike="noStrike">
                <a:solidFill>
                  <a:srgbClr val="000000"/>
                </a:solidFill>
                <a:latin typeface="Gill Sans MT"/>
              </a:rPr>
              <a:t> amendme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ill Sans MT"/>
              </a:rPr>
              <a:t>No freeman shall be taken, imprisoned,...or in any other way destroyed...except by the lawful judgment of his peers, or by the law of the land. To no one will we sell, to none will we deny or delay, right or justice</a:t>
            </a:r>
            <a:endParaRPr b="0" lang="en-US" sz="2600" spc="-1" strike="noStrike">
              <a:solidFill>
                <a:srgbClr val="000000"/>
              </a:solidFill>
              <a:latin typeface="Gill Sans MT"/>
            </a:endParaRPr>
          </a:p>
        </p:txBody>
      </p:sp>
      <p:pic>
        <p:nvPicPr>
          <p:cNvPr id="374" name="Picture 2" descr="Image of Magna Carta">
            <a:hlinkClick r:id="rId1"/>
          </p:cNvPr>
          <p:cNvPicPr/>
          <p:nvPr/>
        </p:nvPicPr>
        <p:blipFill>
          <a:blip r:embed="rId2"/>
          <a:stretch/>
        </p:blipFill>
        <p:spPr>
          <a:xfrm>
            <a:off x="7696080" y="3048120"/>
            <a:ext cx="1447920" cy="2628720"/>
          </a:xfrm>
          <a:prstGeom prst="rect">
            <a:avLst/>
          </a:prstGeom>
          <a:ln w="0">
            <a:noFill/>
          </a:ln>
        </p:spPr>
      </p:pic>
      <p:sp>
        <p:nvSpPr>
          <p:cNvPr id="375" name="Straight Connector 5"/>
          <p:cNvSpPr/>
          <p:nvPr/>
        </p:nvSpPr>
        <p:spPr>
          <a:xfrm>
            <a:off x="4572000" y="1219320"/>
            <a:ext cx="0" cy="518148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Box 6"/>
          <p:cNvSpPr/>
          <p:nvPr/>
        </p:nvSpPr>
        <p:spPr>
          <a:xfrm>
            <a:off x="4648320" y="1447920"/>
            <a:ext cx="44956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s &amp; balances of king</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had natural right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ial by jur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e process of la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ritish Parliament</a:t>
            </a:r>
            <a:endParaRPr b="0" lang="en-US" sz="3200" spc="-1" strike="noStrike">
              <a:solidFill>
                <a:srgbClr val="464653"/>
              </a:solidFill>
              <a:latin typeface="Bookman Old Style"/>
            </a:endParaRPr>
          </a:p>
        </p:txBody>
      </p:sp>
      <p:sp>
        <p:nvSpPr>
          <p:cNvPr id="378" name=""/>
          <p:cNvSpPr txBox="1"/>
          <p:nvPr/>
        </p:nvSpPr>
        <p:spPr>
          <a:xfrm>
            <a:off x="685440" y="1447560"/>
            <a:ext cx="3429000" cy="4174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rticle 1</a:t>
            </a:r>
            <a:endParaRPr b="0" lang="en-US" sz="2600" spc="-1" strike="noStrike">
              <a:solidFill>
                <a:srgbClr val="000000"/>
              </a:solidFill>
              <a:latin typeface="Gill Sans MT"/>
            </a:endParaRPr>
          </a:p>
        </p:txBody>
      </p:sp>
      <p:sp>
        <p:nvSpPr>
          <p:cNvPr id="379" name="Straight Connector 6"/>
          <p:cNvSpPr/>
          <p:nvPr/>
        </p:nvSpPr>
        <p:spPr>
          <a:xfrm>
            <a:off x="4572000" y="1143000"/>
            <a:ext cx="0" cy="52578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Content Placeholder 3"/>
          <p:cNvSpPr/>
          <p:nvPr/>
        </p:nvSpPr>
        <p:spPr>
          <a:xfrm>
            <a:off x="4952880" y="1523880"/>
            <a:ext cx="3962520" cy="4175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Bicameral” meaning two parts</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R – 435</a:t>
            </a:r>
            <a:endParaRPr b="0" lang="en-US" sz="24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House of Representatives</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Senate – 100</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400" spc="-1" strike="noStrike" u="sng">
                <a:solidFill>
                  <a:srgbClr val="000000"/>
                </a:solidFill>
                <a:uFillTx/>
                <a:latin typeface="Gill Sans MT"/>
              </a:rPr>
              <a:t>Habeus Corpus Act</a:t>
            </a:r>
            <a:r>
              <a:rPr b="0" lang="en-US" sz="2400" spc="-1" strike="noStrike">
                <a:solidFill>
                  <a:srgbClr val="000000"/>
                </a:solidFill>
                <a:latin typeface="Gill Sans MT"/>
              </a:rPr>
              <a:t> – must be told the crime you are accused of and the evidence against you</a:t>
            </a:r>
            <a:endParaRPr b="0" lang="en-US" sz="24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yflower Compact</a:t>
            </a:r>
            <a:endParaRPr b="0" lang="en-US" sz="3200" spc="-1" strike="noStrike">
              <a:solidFill>
                <a:srgbClr val="464653"/>
              </a:solidFill>
              <a:latin typeface="Bookman Old Style"/>
            </a:endParaRPr>
          </a:p>
        </p:txBody>
      </p:sp>
      <p:sp>
        <p:nvSpPr>
          <p:cNvPr id="382" name=""/>
          <p:cNvSpPr txBox="1"/>
          <p:nvPr/>
        </p:nvSpPr>
        <p:spPr>
          <a:xfrm>
            <a:off x="685440" y="1447560"/>
            <a:ext cx="3429000" cy="4174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rticle 1</a:t>
            </a:r>
            <a:endParaRPr b="0" lang="en-US" sz="2600" spc="-1" strike="noStrike">
              <a:solidFill>
                <a:srgbClr val="000000"/>
              </a:solidFill>
              <a:latin typeface="Gill Sans MT"/>
            </a:endParaRPr>
          </a:p>
        </p:txBody>
      </p:sp>
      <p:sp>
        <p:nvSpPr>
          <p:cNvPr id="383" name="Straight Connector 6"/>
          <p:cNvSpPr/>
          <p:nvPr/>
        </p:nvSpPr>
        <p:spPr>
          <a:xfrm>
            <a:off x="4572000" y="1143000"/>
            <a:ext cx="0" cy="52578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Content Placeholder 3"/>
          <p:cNvSpPr/>
          <p:nvPr/>
        </p:nvSpPr>
        <p:spPr>
          <a:xfrm>
            <a:off x="4952880" y="1143000"/>
            <a:ext cx="3429000" cy="4175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harter – 1</a:t>
            </a:r>
            <a:r>
              <a:rPr b="0" lang="en-US" sz="2600" spc="-1" strike="noStrike" baseline="30000">
                <a:solidFill>
                  <a:srgbClr val="000000"/>
                </a:solidFill>
                <a:latin typeface="Gill Sans MT"/>
              </a:rPr>
              <a:t>st</a:t>
            </a:r>
            <a:r>
              <a:rPr b="0" lang="en-US" sz="2600" spc="-1" strike="noStrike">
                <a:solidFill>
                  <a:srgbClr val="000000"/>
                </a:solidFill>
                <a:latin typeface="Gill Sans MT"/>
              </a:rPr>
              <a:t> signed docu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social contract – established self-govern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g 20</a:t>
            </a:r>
            <a:endParaRPr b="0" lang="en-US" sz="2600" spc="-1" strike="noStrike">
              <a:solidFill>
                <a:srgbClr val="000000"/>
              </a:solidFill>
              <a:latin typeface="Arial"/>
            </a:endParaRPr>
          </a:p>
        </p:txBody>
      </p:sp>
      <p:pic>
        <p:nvPicPr>
          <p:cNvPr id="385" name="Picture 2" descr="http://www.historyplace.com/unitedstates/revolution/revgfx/may-compact.jpg"/>
          <p:cNvPicPr/>
          <p:nvPr/>
        </p:nvPicPr>
        <p:blipFill>
          <a:blip r:embed="rId1"/>
          <a:stretch/>
        </p:blipFill>
        <p:spPr>
          <a:xfrm>
            <a:off x="457200" y="4724280"/>
            <a:ext cx="2514600" cy="1866960"/>
          </a:xfrm>
          <a:prstGeom prst="rect">
            <a:avLst/>
          </a:prstGeom>
          <a:ln w="0">
            <a:noFill/>
          </a:ln>
        </p:spPr>
      </p:pic>
      <p:pic>
        <p:nvPicPr>
          <p:cNvPr id="386" name="Picture 2" descr="http://www.pilgrimhall.org/images/WebMoranCompact.jpg"/>
          <p:cNvPicPr/>
          <p:nvPr/>
        </p:nvPicPr>
        <p:blipFill>
          <a:blip r:embed="rId2"/>
          <a:stretch/>
        </p:blipFill>
        <p:spPr>
          <a:xfrm>
            <a:off x="4114800" y="4000680"/>
            <a:ext cx="385776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English Bill of Rights</a:t>
            </a:r>
            <a:endParaRPr b="0" lang="en-US" sz="3200" spc="-1" strike="noStrike">
              <a:solidFill>
                <a:srgbClr val="464653"/>
              </a:solidFill>
              <a:latin typeface="Bookman Old Style"/>
            </a:endParaRPr>
          </a:p>
        </p:txBody>
      </p:sp>
      <p:sp>
        <p:nvSpPr>
          <p:cNvPr id="388" name=""/>
          <p:cNvSpPr txBox="1"/>
          <p:nvPr/>
        </p:nvSpPr>
        <p:spPr>
          <a:xfrm>
            <a:off x="457200" y="1219320"/>
            <a:ext cx="312408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Declaration of Independen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Bill of Rights</a:t>
            </a:r>
            <a:endParaRPr b="0" lang="en-US" sz="2600" spc="-1" strike="noStrike">
              <a:solidFill>
                <a:srgbClr val="000000"/>
              </a:solidFill>
              <a:latin typeface="Gill Sans MT"/>
            </a:endParaRPr>
          </a:p>
        </p:txBody>
      </p:sp>
      <p:sp>
        <p:nvSpPr>
          <p:cNvPr id="389" name="Content Placeholder 2"/>
          <p:cNvSpPr/>
          <p:nvPr/>
        </p:nvSpPr>
        <p:spPr>
          <a:xfrm>
            <a:off x="5029200" y="1295280"/>
            <a:ext cx="3124080" cy="4937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no cruel &amp; unusual punish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ight to petition</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ight to bear arms</a:t>
            </a:r>
            <a:endParaRPr b="0" lang="en-US" sz="2600" spc="-1" strike="noStrike">
              <a:solidFill>
                <a:srgbClr val="000000"/>
              </a:solidFill>
              <a:latin typeface="Arial"/>
            </a:endParaRPr>
          </a:p>
        </p:txBody>
      </p:sp>
      <p:cxnSp>
        <p:nvCxnSpPr>
          <p:cNvPr id="390" name="Straight Arrow Connector 5"/>
          <p:cNvCxnSpPr/>
          <p:nvPr/>
        </p:nvCxnSpPr>
        <p:spPr>
          <a:xfrm flipH="1">
            <a:off x="4036320" y="1144080"/>
            <a:ext cx="3960" cy="5258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Enlightenment Period</a:t>
            </a:r>
            <a:endParaRPr b="0" lang="en-US" sz="3200" spc="-1" strike="noStrike">
              <a:solidFill>
                <a:srgbClr val="464653"/>
              </a:solidFill>
              <a:latin typeface="Bookman Old Style"/>
            </a:endParaRPr>
          </a:p>
        </p:txBody>
      </p:sp>
      <p:sp>
        <p:nvSpPr>
          <p:cNvPr id="392" name=""/>
          <p:cNvSpPr txBox="1"/>
          <p:nvPr/>
        </p:nvSpPr>
        <p:spPr>
          <a:xfrm>
            <a:off x="457200" y="1219320"/>
            <a:ext cx="37339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m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DOI</a:t>
            </a:r>
            <a:endParaRPr b="0" lang="en-US" sz="2600" spc="-1" strike="noStrike">
              <a:solidFill>
                <a:srgbClr val="000000"/>
              </a:solidFill>
              <a:latin typeface="Gill Sans MT"/>
            </a:endParaRPr>
          </a:p>
        </p:txBody>
      </p:sp>
      <p:sp>
        <p:nvSpPr>
          <p:cNvPr id="393" name="Content Placeholder 2"/>
          <p:cNvSpPr/>
          <p:nvPr/>
        </p:nvSpPr>
        <p:spPr>
          <a:xfrm>
            <a:off x="4648320" y="1295280"/>
            <a:ext cx="3733560" cy="4937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ent of the govern..</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e the people”</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e hold these truths to be self evident that all men are created equ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Straight Connector 4"/>
          <p:cNvSpPr/>
          <p:nvPr/>
        </p:nvSpPr>
        <p:spPr>
          <a:xfrm>
            <a:off x="8229600" y="0"/>
            <a:ext cx="0" cy="685800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6"/>
          <p:cNvSpPr/>
          <p:nvPr/>
        </p:nvSpPr>
        <p:spPr>
          <a:xfrm>
            <a:off x="0" y="54864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7"/>
          <p:cNvSpPr/>
          <p:nvPr/>
        </p:nvSpPr>
        <p:spPr>
          <a:xfrm>
            <a:off x="0" y="129528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
          <p:cNvSpPr/>
          <p:nvPr/>
        </p:nvSpPr>
        <p:spPr>
          <a:xfrm>
            <a:off x="0" y="2666880"/>
            <a:ext cx="830592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9"/>
          <p:cNvSpPr/>
          <p:nvPr/>
        </p:nvSpPr>
        <p:spPr>
          <a:xfrm>
            <a:off x="0" y="41148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11"/>
          <p:cNvSpPr/>
          <p:nvPr/>
        </p:nvSpPr>
        <p:spPr>
          <a:xfrm>
            <a:off x="41148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15:12Z</dcterms:created>
  <dc:creator>hmhendri</dc:creator>
  <dc:description/>
  <dc:language>en-US</dc:language>
  <cp:lastModifiedBy>hmhendri</cp:lastModifiedBy>
  <dcterms:modified xsi:type="dcterms:W3CDTF">2011-10-17T20:07:30Z</dcterms:modified>
  <cp:revision>6</cp:revision>
  <dc:subject/>
  <dc:title>Slide 1</dc:title>
</cp:coreProperties>
</file>